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33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2.jpeg" ContentType="image/jpeg"/>
  <Override PartName="/ppt/media/image36.gif" ContentType="image/gif"/>
  <Override PartName="/ppt/media/image5.png" ContentType="image/png"/>
  <Override PartName="/ppt/media/image28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36BF-3DF7-4334-8429-90E2008B0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8999-7B5F-43C0-B93A-1F6E50062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7EBA-E4D2-4F2A-8753-CE65CFBF9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703F-EAA1-4594-B83A-3FF6D5BC7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1BBC-4F60-4B48-8469-9A9462E6C2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42A8-7580-4231-9C3D-49160F81B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3D64-1A45-4C65-8230-C42EC37CB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F2C3-D236-441F-8D35-C25BBE69D0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6C8A-A462-473F-9AF3-B0D09F8ADD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63F9-DBA5-40EB-86EF-E97D248A11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8B27-BE23-4AAF-8BF4-3D8D576EB8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F49E-61F5-4ED5-A88F-1EDCB33C3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B209-D600-4B94-9735-DD4FA643BB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56E6-9EF4-4BA1-8B21-308EB3859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AE29-FBC9-48D4-B728-D6ACB331A2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04E8-0087-4DFE-8738-708977F08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68BA-1374-44CB-8B78-CE03A7BEF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7EFC-4979-4D71-9DAE-C54EF4EF3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F3B6-6582-47D3-BF27-29D1597D5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5BB6-3C85-4559-ACF0-5209FA18B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436A-80D2-4D64-9024-7DF187A91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09C3-8903-4733-B363-16EC00D7B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AB72-6456-48AF-9619-7AEA16702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9F1C-6FB0-4F6F-BCD1-71AA29E4F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38B09-4AD9-4B97-BBD0-56BED0C2AC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40" name="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42" name="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03F6C-8887-45B4-BDC7-E34037846C3A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gen" TargetMode="External"/><Relationship Id="rId2" Type="http://schemas.openxmlformats.org/officeDocument/2006/relationships/hyperlink" Target="http://en.wikipedia.org/wiki/Nitrogen" TargetMode="External"/><Relationship Id="rId3" Type="http://schemas.openxmlformats.org/officeDocument/2006/relationships/hyperlink" Target="http://en.wikipedia.org/wiki/Oxygen" TargetMode="External"/><Relationship Id="rId4" Type="http://schemas.openxmlformats.org/officeDocument/2006/relationships/hyperlink" Target="http://en.wikipedia.org/wiki/Fluorine" TargetMode="External"/><Relationship Id="rId5" Type="http://schemas.openxmlformats.org/officeDocument/2006/relationships/hyperlink" Target="http://en.wikipedia.org/wiki/Chlorine" TargetMode="External"/><Relationship Id="rId6" Type="http://schemas.openxmlformats.org/officeDocument/2006/relationships/hyperlink" Target="http://en.wikipedia.org/wiki/Bromine" TargetMode="External"/><Relationship Id="rId7" Type="http://schemas.openxmlformats.org/officeDocument/2006/relationships/hyperlink" Target="http://en.wikipedia.org/wiki/Bromine" TargetMode="External"/><Relationship Id="rId8" Type="http://schemas.openxmlformats.org/officeDocument/2006/relationships/hyperlink" Target="http://en.wikipedia.org/wiki/Iodine" TargetMode="External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8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8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244520" y="21718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Matter &amp; Chang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353960" y="461880"/>
            <a:ext cx="2281320" cy="1525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87680" y="4398840"/>
            <a:ext cx="213372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18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28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14400" y="2133720"/>
            <a:ext cx="7861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Flammabil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Toxic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Re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15BA-FBE2-447B-AD14-F67BF47EA44E}" type="slidenum">
              <a:t>10</a:t>
            </a:fld>
          </a:p>
        </p:txBody>
      </p:sp>
    </p:spTree>
  </p:cSld>
  <p:transition spd="med"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 fill="hold"/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 fill="hold"/>
                                        <p:tgtEl>
                                          <p:spTgt spid="1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 fill="hold"/>
                                        <p:tgtEl>
                                          <p:spTgt spid="1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 fill="hold"/>
                                        <p:tgtEl>
                                          <p:spTgt spid="1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28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38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1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 vs 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89000" y="2255760"/>
            <a:ext cx="75564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change in a substance that does not involve a change in the identity of the substance. The substance may look different but it still remains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79640" y="4406760"/>
            <a:ext cx="7556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343434"/>
                </a:solidFill>
                <a:latin typeface="Arial"/>
                <a:ea typeface="Arial"/>
              </a:rPr>
              <a:t>a change that occurs when one or more substances change into entirely new substances with different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3AC6-7168-4123-BD82-35240949546B}" type="slidenum">
              <a:t>11</a:t>
            </a:fld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39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49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9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38080" y="2149560"/>
            <a:ext cx="7861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Changes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Change of stat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 or phase (such as from solid to liquid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2. Dissolving a subst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3. Absorption of water into a towe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4. Crumpling a piece of pap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5. Pulling copper into a thin wire - a change of shape, but not a change of composi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6. Cutting a material such as w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7. Ripping a piece of tin foi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 fill="hold"/>
                                        <p:tgtEl>
                                          <p:spTgt spid="1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 fill="hold"/>
                                        <p:tgtEl>
                                          <p:spTgt spid="1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 fill="hold"/>
                                        <p:tgtEl>
                                          <p:spTgt spid="1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 fill="hold"/>
                                        <p:tgtEl>
                                          <p:spTgt spid="1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 fill="hold"/>
                                        <p:tgtEl>
                                          <p:spTgt spid="1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 fill="hold"/>
                                        <p:tgtEl>
                                          <p:spTgt spid="1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 fill="hold"/>
                                        <p:tgtEl>
                                          <p:spTgt spid="1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50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60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6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19320" y="2057400"/>
            <a:ext cx="74041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ur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ything. (Not Melting or Boi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ixing an acid with a ba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producing water and a sa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hotosynthe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 process in which carbon dioxide and water are changed into sugars by pl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4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compos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f organic matter (for example, rotting food, food going ba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 fill="hold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fill="hold">
                      <p:stCondLst>
                        <p:cond delay="indefinite"/>
                      </p:stCondLst>
                      <p:childTnLst>
                        <p:par>
                          <p:cTn id="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 fill="hold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 fill="hold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dur="indefinite" fill="hold">
                      <p:stCondLst>
                        <p:cond delay="indefinite"/>
                      </p:stCondLst>
                      <p:childTnLst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 fill="hold"/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 fill="hold"/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60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70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3" name=""/>
          <p:cNvSpPr/>
          <p:nvPr/>
        </p:nvSpPr>
        <p:spPr>
          <a:xfrm>
            <a:off x="1371600" y="512640"/>
            <a:ext cx="7391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Evidence of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41200" y="2095560"/>
            <a:ext cx="8597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an not get back to the original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for example, iro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dish-brown when iron ru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Note: Color change is typically a good indication of a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change but one should look for other evidence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Release of o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Release/absorption of heat (increase or decrease of tem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hange of form (ie: burning pap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Release /absorption of energy (light or sou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Formation of gases (bubbles or smok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Formation of a precipitate (solid partic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7251840" y="1752480"/>
            <a:ext cx="1839600" cy="231804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2"/>
          <a:stretch/>
        </p:blipFill>
        <p:spPr>
          <a:xfrm>
            <a:off x="6934320" y="454644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71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81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2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Examples of 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3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1828800" cy="156852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905120" cy="1408320"/>
          </a:xfrm>
          <a:prstGeom prst="rect">
            <a:avLst/>
          </a:prstGeom>
          <a:ln w="0">
            <a:noFill/>
          </a:ln>
        </p:spPr>
      </p:pic>
      <p:pic>
        <p:nvPicPr>
          <p:cNvPr id="1826" name="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828" name="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981080" cy="1551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83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93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4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219320" y="2133720"/>
            <a:ext cx="7480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ubstance that cannot be broken down into simple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nd on the periodic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6" name="" descr=""/>
          <p:cNvPicPr/>
          <p:nvPr/>
        </p:nvPicPr>
        <p:blipFill>
          <a:blip r:embed="rId1"/>
          <a:stretch/>
        </p:blipFill>
        <p:spPr>
          <a:xfrm>
            <a:off x="1547640" y="3693960"/>
            <a:ext cx="570420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93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93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03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2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371600" y="2209680"/>
            <a:ext cx="732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mallest particle of an el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1"/>
          <a:stretch/>
        </p:blipFill>
        <p:spPr>
          <a:xfrm>
            <a:off x="3238560" y="2819520"/>
            <a:ext cx="3657600" cy="3555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dur="indefinite" fill="hold">
                      <p:stCondLst>
                        <p:cond delay="indefinite"/>
                      </p:stCondLst>
                      <p:childTnLst>
                        <p:par>
                          <p:cTn id="4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5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046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0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90720" y="2209680"/>
            <a:ext cx="7785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a substance made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wo or more differ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ements that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ly combi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1650960" y="3860640"/>
            <a:ext cx="3441600" cy="2527560"/>
          </a:xfrm>
          <a:prstGeom prst="rect">
            <a:avLst/>
          </a:prstGeom>
          <a:ln w="0">
            <a:noFill/>
          </a:ln>
        </p:spPr>
      </p:pic>
      <p:pic>
        <p:nvPicPr>
          <p:cNvPr id="2153" name="" descr=""/>
          <p:cNvPicPr/>
          <p:nvPr/>
        </p:nvPicPr>
        <p:blipFill>
          <a:blip r:embed="rId2"/>
          <a:stretch/>
        </p:blipFill>
        <p:spPr>
          <a:xfrm>
            <a:off x="5067360" y="3860640"/>
            <a:ext cx="290808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15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15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25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9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066680" y="2286000"/>
            <a:ext cx="77090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olecul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a collection of elements bonded together that behave as a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hey do not need to contain two different el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1" name="" descr=""/>
          <p:cNvPicPr/>
          <p:nvPr/>
        </p:nvPicPr>
        <p:blipFill>
          <a:blip r:embed="rId1"/>
          <a:stretch/>
        </p:blipFill>
        <p:spPr>
          <a:xfrm>
            <a:off x="3778200" y="4122720"/>
            <a:ext cx="2438280" cy="2241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1371600" y="698400"/>
            <a:ext cx="73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2286000"/>
            <a:ext cx="77086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Matter is anything that has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and takes up spa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0960" y="3981600"/>
            <a:ext cx="8001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Quantifying Ma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ing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e of the amount of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olume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mount of three-dimensional space an object occu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26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26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36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7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031760" y="2286000"/>
            <a:ext cx="5843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Molecules that are composed of two at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ight elements exist in the diatomic state in the liquid and solid stat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F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2</a:t>
            </a:r>
            <a:r>
              <a:rPr b="0" lang="en-US" sz="3000" spc="-1" strike="noStrike" u="sng" baseline="-6000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9" name="" descr=""/>
          <p:cNvPicPr/>
          <p:nvPr/>
        </p:nvPicPr>
        <p:blipFill>
          <a:blip r:embed="rId9"/>
          <a:stretch/>
        </p:blipFill>
        <p:spPr>
          <a:xfrm>
            <a:off x="6459480" y="3319560"/>
            <a:ext cx="2409840" cy="18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1CC7-AB5F-4A4A-A8EA-BFCC9FBABD0D}" type="slidenum">
              <a:t>20</a:t>
            </a:fld>
          </a:p>
        </p:txBody>
      </p:sp>
    </p:spTree>
  </p:cSld>
  <p:transition spd="med">
    <p:diamond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37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37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47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5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ure Subst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838080" y="2362320"/>
            <a:ext cx="7937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Sub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substance that always has the same 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  elements, molecules, and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38080" y="3962520"/>
            <a:ext cx="8089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Pure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haracteristic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8" name=""/>
          <p:cNvGrpSpPr/>
          <p:nvPr/>
        </p:nvGrpSpPr>
        <p:grpSpPr>
          <a:xfrm>
            <a:off x="-25560" y="93600"/>
            <a:ext cx="8910720" cy="6710400"/>
            <a:chOff x="-25560" y="93600"/>
            <a:chExt cx="8910720" cy="6710400"/>
          </a:xfrm>
        </p:grpSpPr>
        <p:grpSp>
          <p:nvGrpSpPr>
            <p:cNvPr id="2479" name=""/>
            <p:cNvGrpSpPr/>
            <p:nvPr/>
          </p:nvGrpSpPr>
          <p:grpSpPr>
            <a:xfrm>
              <a:off x="-25560" y="93600"/>
              <a:ext cx="642960" cy="6710400"/>
              <a:chOff x="-25560" y="93600"/>
              <a:chExt cx="642960" cy="6710400"/>
            </a:xfrm>
          </p:grpSpPr>
          <p:sp>
            <p:nvSpPr>
              <p:cNvPr id="2480" name=""/>
              <p:cNvSpPr/>
              <p:nvPr/>
            </p:nvSpPr>
            <p:spPr>
              <a:xfrm>
                <a:off x="-25560" y="6694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-25560" y="67518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-25560" y="6804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-25560" y="6551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-25560" y="647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-25560" y="6622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-25560" y="5842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-25560" y="5799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-25560" y="6404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-25560" y="62038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-25560" y="6075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-25560" y="6370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-25560" y="58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-25560" y="59612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-25560" y="6275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-25560" y="6242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-25560" y="55944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-25560" y="56516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-25560" y="570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-25560" y="54514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-25560" y="5375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-25560" y="55227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-25560" y="4741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-25560" y="4699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-25560" y="5303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-25560" y="510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-25560" y="49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-25560" y="527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-25560" y="477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-25560" y="48610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-25560" y="5175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-25560" y="5141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-25560" y="4518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-25560" y="438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-25560" y="4275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-25560" y="4587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-25560" y="4556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-25560" y="4078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-25560" y="4135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-25560" y="4187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-25560" y="393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-25560" y="3859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-25560" y="4006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-25560" y="3787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-25560" y="3587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-25560" y="375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-25560" y="365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-25560" y="3625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-25560" y="3405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-25560" y="34624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-25560" y="3514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-25560" y="3262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-25560" y="3186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-25560" y="3333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-25560" y="25527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-25560" y="250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-25560" y="3114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-25560" y="29145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-25560" y="2786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-25560" y="308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-25560" y="2585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-25560" y="2671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-25560" y="298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-25560" y="295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-25560" y="2305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-25560" y="2362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-25560" y="2414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-25560" y="216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-25560" y="22334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-25560" y="1636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-25560" y="15937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-25560" y="19987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-25560" y="187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-25560" y="167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-25560" y="17557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-25560" y="2070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-25560" y="2036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-25560" y="1389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-25560" y="1447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-25560" y="1500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-25560" y="1246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-25560" y="131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-25560" y="116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-25560" y="105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-25560" y="853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-25560" y="9111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-25560" y="963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-25560" y="711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-25560" y="63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-25560" y="78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-25560" y="563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-25560" y="5302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-25560" y="434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-25560" y="136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-25560" y="9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-25560" y="169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-25560" y="255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-25560" y="34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609480" y="351000"/>
              <a:ext cx="8275680" cy="1777680"/>
              <a:chOff x="609480" y="351000"/>
              <a:chExt cx="8275680" cy="1777680"/>
            </a:xfrm>
          </p:grpSpPr>
          <p:sp>
            <p:nvSpPr>
              <p:cNvPr id="2579" name=""/>
              <p:cNvSpPr/>
              <p:nvPr/>
            </p:nvSpPr>
            <p:spPr>
              <a:xfrm>
                <a:off x="858960" y="35100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09480" y="482760"/>
                <a:ext cx="565812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73800" y="179388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227400" y="194616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3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990720" y="2379600"/>
            <a:ext cx="50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x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ubstance composed of two or more elements or compounds that are physically mixed together but not chemically comb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ly comb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an b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not only liquid. There can be solid, liquid, and gas mix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5" name="" descr=""/>
          <p:cNvPicPr/>
          <p:nvPr/>
        </p:nvPicPr>
        <p:blipFill>
          <a:blip r:embed="rId1"/>
          <a:stretch/>
        </p:blipFill>
        <p:spPr>
          <a:xfrm>
            <a:off x="6946920" y="2387520"/>
            <a:ext cx="1747800" cy="1905120"/>
          </a:xfrm>
          <a:prstGeom prst="rect">
            <a:avLst/>
          </a:prstGeom>
          <a:ln w="0">
            <a:noFill/>
          </a:ln>
        </p:spPr>
      </p:pic>
      <p:pic>
        <p:nvPicPr>
          <p:cNvPr id="2586" name="" descr=""/>
          <p:cNvPicPr/>
          <p:nvPr/>
        </p:nvPicPr>
        <p:blipFill>
          <a:blip r:embed="rId2"/>
          <a:stretch/>
        </p:blipFill>
        <p:spPr>
          <a:xfrm>
            <a:off x="6718320" y="4419720"/>
            <a:ext cx="2209680" cy="1679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58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58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68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2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ypes of 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2438280"/>
            <a:ext cx="7556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om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in which the composition is uniform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lt water, air, alloys, carbonate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914400" y="4114800"/>
            <a:ext cx="77090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eter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that i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uniform through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nd and water, salad dressing, oil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035000" y="5697360"/>
            <a:ext cx="1800" cy="2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 fill="hold"/>
                                        <p:tgtEl>
                                          <p:spTgt spid="2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 fill="hold"/>
                                        <p:tgtEl>
                                          <p:spTgt spid="2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fill="hold">
                      <p:stCondLst>
                        <p:cond delay="indefinite"/>
                      </p:stCondLst>
                      <p:childTnLst>
                        <p:par>
                          <p:cTn id="5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 fill="hold"/>
                                        <p:tgtEl>
                                          <p:spTgt spid="2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 fill="hold"/>
                                        <p:tgtEl>
                                          <p:spTgt spid="2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69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69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79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2438280"/>
            <a:ext cx="7556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etallic Alloy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mogeneous mixture of two or mor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n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arb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inless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hrom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Zi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w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in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3" name="" descr=""/>
          <p:cNvPicPr/>
          <p:nvPr/>
        </p:nvPicPr>
        <p:blipFill>
          <a:blip r:embed="rId1"/>
          <a:stretch/>
        </p:blipFill>
        <p:spPr>
          <a:xfrm>
            <a:off x="6286680" y="2913120"/>
            <a:ext cx="2692080" cy="3593880"/>
          </a:xfrm>
          <a:prstGeom prst="rect">
            <a:avLst/>
          </a:prstGeom>
          <a:ln w="0">
            <a:noFill/>
          </a:ln>
        </p:spPr>
      </p:pic>
      <p:pic>
        <p:nvPicPr>
          <p:cNvPr id="2804" name="" descr=""/>
          <p:cNvPicPr/>
          <p:nvPr/>
        </p:nvPicPr>
        <p:blipFill>
          <a:blip r:embed="rId2"/>
          <a:stretch/>
        </p:blipFill>
        <p:spPr>
          <a:xfrm>
            <a:off x="7142040" y="4879800"/>
            <a:ext cx="487440" cy="479520"/>
          </a:xfrm>
          <a:prstGeom prst="rect">
            <a:avLst/>
          </a:prstGeom>
          <a:ln w="0">
            <a:noFill/>
          </a:ln>
        </p:spPr>
      </p:pic>
      <p:sp>
        <p:nvSpPr>
          <p:cNvPr id="2805" name=""/>
          <p:cNvSpPr/>
          <p:nvPr/>
        </p:nvSpPr>
        <p:spPr>
          <a:xfrm>
            <a:off x="6880320" y="4813200"/>
            <a:ext cx="1079280" cy="57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A073-745A-4AEA-93A9-A2210C14FF79}" type="slidenum">
              <a:t>24</a:t>
            </a:fld>
          </a:p>
        </p:txBody>
      </p:sp>
    </p:spTree>
  </p:cSld>
  <p:transition spd="med">
    <p:diamond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50" dur="500" fill="hold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6" name=""/>
          <p:cNvGrpSpPr/>
          <p:nvPr/>
        </p:nvGrpSpPr>
        <p:grpSpPr>
          <a:xfrm>
            <a:off x="838080" y="461880"/>
            <a:ext cx="8910720" cy="6710400"/>
            <a:chOff x="838080" y="461880"/>
            <a:chExt cx="8910720" cy="6710400"/>
          </a:xfrm>
        </p:grpSpPr>
        <p:grpSp>
          <p:nvGrpSpPr>
            <p:cNvPr id="2807" name=""/>
            <p:cNvGrpSpPr/>
            <p:nvPr/>
          </p:nvGrpSpPr>
          <p:grpSpPr>
            <a:xfrm>
              <a:off x="838080" y="461880"/>
              <a:ext cx="642960" cy="6710400"/>
              <a:chOff x="838080" y="461880"/>
              <a:chExt cx="642960" cy="6710400"/>
            </a:xfrm>
          </p:grpSpPr>
          <p:sp>
            <p:nvSpPr>
              <p:cNvPr id="2808" name=""/>
              <p:cNvSpPr/>
              <p:nvPr/>
            </p:nvSpPr>
            <p:spPr>
              <a:xfrm>
                <a:off x="838080" y="7062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38080" y="7120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38080" y="7172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38080" y="6919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38080" y="684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38080" y="6991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38080" y="621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38080" y="6167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38080" y="677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38080" y="657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38080" y="644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38080" y="673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38080" y="62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38080" y="6329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38080" y="6643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38080" y="6610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38080" y="5962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38080" y="601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38080" y="6072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38080" y="5819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38080" y="57434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38080" y="5891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8080" y="5110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8080" y="5067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8080" y="5672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8080" y="547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8080" y="53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8080" y="5640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8080" y="5143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8080" y="5229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8080" y="5543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8080" y="5510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8080" y="48862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8080" y="4757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8080" y="4643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8080" y="4956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8080" y="492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8080" y="4446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8080" y="450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8080" y="4556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8080" y="430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8080" y="4227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8080" y="4375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8080" y="415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8080" y="39560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8080" y="412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080" y="4027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080" y="3994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080" y="3773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8080" y="383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8080" y="3882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8080" y="3630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8080" y="3554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38080" y="3701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38080" y="2921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8080" y="2878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38080" y="3483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38080" y="32828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38080" y="3154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38080" y="344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38080" y="2954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38080" y="304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38080" y="3354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38080" y="3321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38080" y="2673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38080" y="2730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38080" y="2782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38080" y="25304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38080" y="2602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38080" y="2004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38080" y="19620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38080" y="2367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38080" y="2238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38080" y="2038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38080" y="2124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38080" y="2438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38080" y="2405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38080" y="175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38080" y="1816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38080" y="186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38080" y="1614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38080" y="1687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38080" y="153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38080" y="1419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38080" y="122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38080" y="12794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38080" y="1332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38080" y="1079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38080" y="1003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38080" y="1150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38080" y="932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38080" y="898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38080" y="803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3808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38080" y="4618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38080" y="538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38080" y="623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38080" y="714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6" name=""/>
            <p:cNvGrpSpPr/>
            <p:nvPr/>
          </p:nvGrpSpPr>
          <p:grpSpPr>
            <a:xfrm>
              <a:off x="1473120" y="719280"/>
              <a:ext cx="8275680" cy="1777680"/>
              <a:chOff x="1473120" y="719280"/>
              <a:chExt cx="8275680" cy="1777680"/>
            </a:xfrm>
          </p:grpSpPr>
          <p:sp>
            <p:nvSpPr>
              <p:cNvPr id="2907" name=""/>
              <p:cNvSpPr/>
              <p:nvPr/>
            </p:nvSpPr>
            <p:spPr>
              <a:xfrm>
                <a:off x="1722600" y="71928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1473120" y="85104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137440" y="216216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091040" y="231444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008000" y="2352600"/>
            <a:ext cx="7556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lumin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luminum with various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il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ilver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ol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Gold with Silver and/or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4 karat = 24 parts of gold (very 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2 karat = 22 parts gold : 2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8 karat = 18 parts gold : 6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4 karat = 14 parts gold : 10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SzPct val="45000"/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0 karat = 10 parts gold : 14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3" name="" descr=""/>
          <p:cNvPicPr/>
          <p:nvPr/>
        </p:nvPicPr>
        <p:blipFill>
          <a:blip r:embed="rId1"/>
          <a:stretch/>
        </p:blipFill>
        <p:spPr>
          <a:xfrm>
            <a:off x="6692760" y="2565360"/>
            <a:ext cx="2349720" cy="23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FC3D-0FA2-469A-B590-3253AFD19534}" type="slidenum">
              <a:t>25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1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1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01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19" name="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5297400" cy="519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B2A2-1013-4D68-A811-B674E9FE83C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02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02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12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5" name=""/>
          <p:cNvSpPr/>
          <p:nvPr/>
        </p:nvSpPr>
        <p:spPr>
          <a:xfrm>
            <a:off x="1371600" y="53964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 Black"/>
                <a:ea typeface="Arial Black"/>
              </a:rPr>
              <a:t>Homogeneous or Heterogeneous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6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816200" cy="2057400"/>
          </a:xfrm>
          <a:prstGeom prst="rect">
            <a:avLst/>
          </a:prstGeom>
          <a:ln w="0">
            <a:noFill/>
          </a:ln>
        </p:spPr>
      </p:pic>
      <p:pic>
        <p:nvPicPr>
          <p:cNvPr id="3127" name="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544400" cy="1676160"/>
          </a:xfrm>
          <a:prstGeom prst="rect">
            <a:avLst/>
          </a:prstGeom>
          <a:ln w="0">
            <a:noFill/>
          </a:ln>
        </p:spPr>
      </p:pic>
      <p:pic>
        <p:nvPicPr>
          <p:cNvPr id="3128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3129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595600" cy="1717920"/>
          </a:xfrm>
          <a:prstGeom prst="rect">
            <a:avLst/>
          </a:prstGeom>
          <a:ln w="0">
            <a:noFill/>
          </a:ln>
        </p:spPr>
      </p:pic>
      <p:pic>
        <p:nvPicPr>
          <p:cNvPr id="3130" name="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438640" cy="1614600"/>
          </a:xfrm>
          <a:prstGeom prst="rect">
            <a:avLst/>
          </a:prstGeom>
          <a:ln w="0">
            <a:noFill/>
          </a:ln>
        </p:spPr>
      </p:pic>
      <p:pic>
        <p:nvPicPr>
          <p:cNvPr id="3131" name="" descr=""/>
          <p:cNvPicPr/>
          <p:nvPr/>
        </p:nvPicPr>
        <p:blipFill>
          <a:blip r:embed="rId6"/>
          <a:stretch/>
        </p:blipFill>
        <p:spPr>
          <a:xfrm>
            <a:off x="3422520" y="231156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3132" name=""/>
          <p:cNvSpPr/>
          <p:nvPr/>
        </p:nvSpPr>
        <p:spPr>
          <a:xfrm>
            <a:off x="495360" y="2736720"/>
            <a:ext cx="2552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581040" y="51483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004080" y="3002040"/>
            <a:ext cx="272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079800" y="3002040"/>
            <a:ext cx="272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235560" y="4968720"/>
            <a:ext cx="2727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463920" y="48657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 Black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dur="indefinite" fill="hold">
                      <p:stCondLst>
                        <p:cond delay="indefinite"/>
                      </p:stCondLst>
                      <p:childTnLst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dur="indefinite" fill="hold">
                      <p:stCondLst>
                        <p:cond delay="indefinite"/>
                      </p:stCondLst>
                      <p:childTnLst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dur="indefinite" fill="hold">
                      <p:stCondLst>
                        <p:cond delay="indefinite"/>
                      </p:stCondLst>
                      <p:childTnLst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13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14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23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3" name=""/>
          <p:cNvSpPr/>
          <p:nvPr/>
        </p:nvSpPr>
        <p:spPr>
          <a:xfrm>
            <a:off x="1371600" y="78732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 Black"/>
                <a:ea typeface="Arial Black"/>
              </a:rPr>
              <a:t>Classification of Matt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3886200" y="2133720"/>
            <a:ext cx="1522440" cy="379440"/>
            <a:chOff x="3886200" y="2133720"/>
            <a:chExt cx="1522440" cy="379440"/>
          </a:xfrm>
        </p:grpSpPr>
        <p:sp>
          <p:nvSpPr>
            <p:cNvPr id="3245" name=""/>
            <p:cNvSpPr/>
            <p:nvPr/>
          </p:nvSpPr>
          <p:spPr>
            <a:xfrm>
              <a:off x="3886200" y="2133720"/>
              <a:ext cx="1522440" cy="3794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200120" y="2141280"/>
              <a:ext cx="8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t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7" name=""/>
          <p:cNvGrpSpPr/>
          <p:nvPr/>
        </p:nvGrpSpPr>
        <p:grpSpPr>
          <a:xfrm>
            <a:off x="3048120" y="2971800"/>
            <a:ext cx="3122640" cy="531720"/>
            <a:chOff x="3048120" y="2971800"/>
            <a:chExt cx="3122640" cy="531720"/>
          </a:xfrm>
        </p:grpSpPr>
        <p:sp>
          <p:nvSpPr>
            <p:cNvPr id="3248" name=""/>
            <p:cNvSpPr/>
            <p:nvPr/>
          </p:nvSpPr>
          <p:spPr>
            <a:xfrm>
              <a:off x="3048120" y="2971800"/>
              <a:ext cx="312264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335760" y="3055680"/>
              <a:ext cx="25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separat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0" name=""/>
          <p:cNvGrpSpPr/>
          <p:nvPr/>
        </p:nvGrpSpPr>
        <p:grpSpPr>
          <a:xfrm>
            <a:off x="1752480" y="3962520"/>
            <a:ext cx="1979640" cy="455400"/>
            <a:chOff x="1752480" y="3962520"/>
            <a:chExt cx="1979640" cy="455400"/>
          </a:xfrm>
        </p:grpSpPr>
        <p:sp>
          <p:nvSpPr>
            <p:cNvPr id="3251" name=""/>
            <p:cNvSpPr/>
            <p:nvPr/>
          </p:nvSpPr>
          <p:spPr>
            <a:xfrm>
              <a:off x="1752480" y="3962520"/>
              <a:ext cx="197964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150280" y="4008240"/>
              <a:ext cx="11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xt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3" name=""/>
          <p:cNvGrpSpPr/>
          <p:nvPr/>
        </p:nvGrpSpPr>
        <p:grpSpPr>
          <a:xfrm>
            <a:off x="5334120" y="3962520"/>
            <a:ext cx="2360520" cy="455400"/>
            <a:chOff x="5334120" y="3962520"/>
            <a:chExt cx="2360520" cy="455400"/>
          </a:xfrm>
        </p:grpSpPr>
        <p:sp>
          <p:nvSpPr>
            <p:cNvPr id="3254" name=""/>
            <p:cNvSpPr/>
            <p:nvPr/>
          </p:nvSpPr>
          <p:spPr>
            <a:xfrm>
              <a:off x="5334120" y="3962520"/>
              <a:ext cx="2360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478480" y="40082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re Sub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6" name=""/>
          <p:cNvGrpSpPr/>
          <p:nvPr/>
        </p:nvGrpSpPr>
        <p:grpSpPr>
          <a:xfrm>
            <a:off x="1051920" y="4876920"/>
            <a:ext cx="3531600" cy="455400"/>
            <a:chOff x="1051920" y="4876920"/>
            <a:chExt cx="3531600" cy="455400"/>
          </a:xfrm>
        </p:grpSpPr>
        <p:sp>
          <p:nvSpPr>
            <p:cNvPr id="3257" name=""/>
            <p:cNvSpPr/>
            <p:nvPr/>
          </p:nvSpPr>
          <p:spPr>
            <a:xfrm>
              <a:off x="1065240" y="4876920"/>
              <a:ext cx="3503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051920" y="4922640"/>
              <a:ext cx="353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s the composition unifor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754920" y="5867280"/>
            <a:ext cx="1839960" cy="760680"/>
            <a:chOff x="754920" y="5867280"/>
            <a:chExt cx="1839960" cy="760680"/>
          </a:xfrm>
        </p:grpSpPr>
        <p:sp>
          <p:nvSpPr>
            <p:cNvPr id="3260" name=""/>
            <p:cNvSpPr/>
            <p:nvPr/>
          </p:nvSpPr>
          <p:spPr>
            <a:xfrm>
              <a:off x="760320" y="5867280"/>
              <a:ext cx="182736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54920" y="6065640"/>
              <a:ext cx="183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om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2" name=""/>
          <p:cNvSpPr/>
          <p:nvPr/>
        </p:nvSpPr>
        <p:spPr>
          <a:xfrm>
            <a:off x="4648320" y="25909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 flipH="1">
            <a:off x="2509560" y="3429000"/>
            <a:ext cx="390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248520" y="3505320"/>
            <a:ext cx="38088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3083040" y="5867280"/>
            <a:ext cx="1908360" cy="760680"/>
            <a:chOff x="3083040" y="5867280"/>
            <a:chExt cx="1908360" cy="760680"/>
          </a:xfrm>
        </p:grpSpPr>
        <p:sp>
          <p:nvSpPr>
            <p:cNvPr id="3266" name=""/>
            <p:cNvSpPr/>
            <p:nvPr/>
          </p:nvSpPr>
          <p:spPr>
            <a:xfrm>
              <a:off x="3122640" y="5867280"/>
              <a:ext cx="18288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083040" y="6065640"/>
              <a:ext cx="190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ter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8" name=""/>
          <p:cNvSpPr/>
          <p:nvPr/>
        </p:nvSpPr>
        <p:spPr>
          <a:xfrm>
            <a:off x="26668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 flipH="1">
            <a:off x="1518840" y="5486400"/>
            <a:ext cx="3142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3809880" y="54864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1828800" y="3276720"/>
            <a:ext cx="69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6553080" y="320040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3" name=""/>
          <p:cNvGrpSpPr/>
          <p:nvPr/>
        </p:nvGrpSpPr>
        <p:grpSpPr>
          <a:xfrm>
            <a:off x="5253120" y="4876920"/>
            <a:ext cx="3586320" cy="531720"/>
            <a:chOff x="5253120" y="4876920"/>
            <a:chExt cx="3586320" cy="531720"/>
          </a:xfrm>
        </p:grpSpPr>
        <p:sp>
          <p:nvSpPr>
            <p:cNvPr id="3274" name=""/>
            <p:cNvSpPr/>
            <p:nvPr/>
          </p:nvSpPr>
          <p:spPr>
            <a:xfrm>
              <a:off x="5256360" y="4876920"/>
              <a:ext cx="358128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253120" y="4989960"/>
              <a:ext cx="35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broken down ordinarily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5529600" y="5867280"/>
            <a:ext cx="1432800" cy="760680"/>
            <a:chOff x="5529600" y="5867280"/>
            <a:chExt cx="1432800" cy="760680"/>
          </a:xfrm>
        </p:grpSpPr>
        <p:sp>
          <p:nvSpPr>
            <p:cNvPr id="3277" name=""/>
            <p:cNvSpPr/>
            <p:nvPr/>
          </p:nvSpPr>
          <p:spPr>
            <a:xfrm>
              <a:off x="5560920" y="5867280"/>
              <a:ext cx="13716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529600" y="6065640"/>
              <a:ext cx="143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mp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543800" y="5867280"/>
            <a:ext cx="1217520" cy="760680"/>
            <a:chOff x="7543800" y="5867280"/>
            <a:chExt cx="1217520" cy="760680"/>
          </a:xfrm>
        </p:grpSpPr>
        <p:sp>
          <p:nvSpPr>
            <p:cNvPr id="3280" name=""/>
            <p:cNvSpPr/>
            <p:nvPr/>
          </p:nvSpPr>
          <p:spPr>
            <a:xfrm>
              <a:off x="7543800" y="5867280"/>
              <a:ext cx="121752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603920" y="6065640"/>
              <a:ext cx="109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2" name=""/>
          <p:cNvSpPr/>
          <p:nvPr/>
        </p:nvSpPr>
        <p:spPr>
          <a:xfrm>
            <a:off x="65530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flipH="1">
            <a:off x="6091200" y="5486400"/>
            <a:ext cx="2383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7696080" y="5486400"/>
            <a:ext cx="38124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457200" y="533412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038480" y="5334120"/>
            <a:ext cx="85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029200" y="5410080"/>
            <a:ext cx="100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8077320" y="5410080"/>
            <a:ext cx="85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29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29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39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4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roducts &amp; React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762120" y="2133720"/>
            <a:ext cx="7480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actants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ubstances that react in a chemical reaction. Shown on the lef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762120" y="2971800"/>
            <a:ext cx="6946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du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ubstances that are formed as a result of a chemical reaction. Shown on the righ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977760" y="4280040"/>
            <a:ext cx="77724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arbo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+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+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Lucida Grande"/>
                <a:ea typeface="Lucida Grande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Grande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O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Lucida Grande"/>
                <a:ea typeface="Lucida Grand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reactants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Lucida Grande"/>
                <a:ea typeface="Lucida Grande"/>
              </a:rPr>
              <a:t>yield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arbon reacts with oxygen to yield carbon diox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 fill="hold"/>
                                        <p:tgtEl>
                                          <p:spTgt spid="3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dur="indefinite" fill="hold">
                      <p:stCondLst>
                        <p:cond delay="indefinite"/>
                      </p:stCondLst>
                      <p:childTnLst>
                        <p:par>
                          <p:cTn id="6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 fill="hold"/>
                                        <p:tgtEl>
                                          <p:spTgt spid="3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 fill="hold"/>
                                        <p:tgtEl>
                                          <p:spTgt spid="3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 fill="hold"/>
                                        <p:tgtEl>
                                          <p:spTgt spid="3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dur="indefinite" fill="hold">
                      <p:stCondLst>
                        <p:cond delay="indefinite"/>
                      </p:stCondLst>
                      <p:childTnLst>
                        <p:par>
                          <p:cTn id="6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 fill="hold"/>
                                        <p:tgtEl>
                                          <p:spTgt spid="3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9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39440" y="209556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hysical forms in which 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stance can exi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e-Einstein Condens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qu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s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712C-B052-4C5E-85A2-DA30C0DE0A0E}" type="slidenum">
              <a:t>3</a:t>
            </a:fld>
          </a:p>
        </p:txBody>
      </p:sp>
    </p:spTree>
  </p:cSld>
  <p:transition spd="med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8" name="" descr=""/>
          <p:cNvPicPr/>
          <p:nvPr/>
        </p:nvPicPr>
        <p:blipFill>
          <a:blip r:embed="rId1"/>
          <a:stretch/>
        </p:blipFill>
        <p:spPr>
          <a:xfrm>
            <a:off x="469800" y="4686480"/>
            <a:ext cx="2578320" cy="1625400"/>
          </a:xfrm>
          <a:prstGeom prst="rect">
            <a:avLst/>
          </a:prstGeom>
          <a:ln w="0">
            <a:noFill/>
          </a:ln>
        </p:spPr>
      </p:pic>
      <p:pic>
        <p:nvPicPr>
          <p:cNvPr id="3399" name="" descr=""/>
          <p:cNvPicPr/>
          <p:nvPr/>
        </p:nvPicPr>
        <p:blipFill>
          <a:blip r:embed="rId2"/>
          <a:stretch/>
        </p:blipFill>
        <p:spPr>
          <a:xfrm>
            <a:off x="6858000" y="4584600"/>
            <a:ext cx="21718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340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40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40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50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5" name=""/>
          <p:cNvSpPr/>
          <p:nvPr/>
        </p:nvSpPr>
        <p:spPr>
          <a:xfrm>
            <a:off x="1371600" y="806400"/>
            <a:ext cx="739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Re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990720" y="2133720"/>
            <a:ext cx="77850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reac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rocess by which one or more substances change to produce one or more different sub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NaOH + HCl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Na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+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dur="indefinite" fill="hold">
                      <p:stCondLst>
                        <p:cond delay="indefinite"/>
                      </p:stCondLst>
                      <p:childTnLst>
                        <p:par>
                          <p:cTn id="6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 fill="hold"/>
                                        <p:tgtEl>
                                          <p:spTgt spid="3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dur="indefinite" fill="hold">
                      <p:stCondLst>
                        <p:cond delay="indefinite"/>
                      </p:stCondLst>
                      <p:childTnLst>
                        <p:par>
                          <p:cTn id="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 fill="hold"/>
                                        <p:tgtEl>
                                          <p:spTgt spid="3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 fill="hold"/>
                                        <p:tgtEl>
                                          <p:spTgt spid="3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 fill="hold"/>
                                        <p:tgtEl>
                                          <p:spTgt spid="3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fill="hold">
                      <p:stCondLst>
                        <p:cond delay="indefinite"/>
                      </p:stCondLst>
                      <p:childTnLst>
                        <p:par>
                          <p:cTn id="6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7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508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509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608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2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Gummy Bear 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533520" y="2209680"/>
            <a:ext cx="8318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KCl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+ K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otassium Chlorate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arbon Dioxide + Potassium Chloride + 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reacta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produc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dur="indefinite" fill="hold">
                      <p:stCondLst>
                        <p:cond delay="indefinite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 fill="hold"/>
                                        <p:tgtEl>
                                          <p:spTgt spid="3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 fill="hold"/>
                                        <p:tgtEl>
                                          <p:spTgt spid="3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dur="indefinite" fill="hold">
                      <p:stCondLst>
                        <p:cond delay="indefinite"/>
                      </p:stCondLst>
                      <p:childTnLst>
                        <p:par>
                          <p:cTn id="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 fill="hold"/>
                                        <p:tgtEl>
                                          <p:spTgt spid="3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dur="indefinite" fill="hold">
                      <p:stCondLst>
                        <p:cond delay="indefinite"/>
                      </p:stCondLst>
                      <p:childTnLst>
                        <p:par>
                          <p:cTn id="7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 fill="hold"/>
                                        <p:tgtEl>
                                          <p:spTgt spid="3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 fill="hold"/>
                                        <p:tgtEl>
                                          <p:spTgt spid="3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61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61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71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ixtures can be separated into their individual compon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Following are various separation method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7475400" y="6370560"/>
            <a:ext cx="419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F3D3CE-0135-4E8F-A534-86DCAC42213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7BC9-B253-4947-92F5-D996DEE7A8FF}" type="slidenum">
              <a:t>32</a:t>
            </a:fld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72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72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82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7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762120" y="2286000"/>
            <a:ext cx="48895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Lucida Grande"/>
                <a:ea typeface="Lucida Grande"/>
              </a:rPr>
              <a:t>Gravitational Filtration</a:t>
            </a:r>
            <a:r>
              <a:rPr b="1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- </a:t>
            </a:r>
            <a:r>
              <a:rPr b="0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uses gravity and filter paper to separate heterogeneous mixtures of liquids and solids</a:t>
            </a:r>
            <a:r>
              <a:rPr b="0" lang="en-US" sz="2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Symbo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9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9768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0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831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0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31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5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809640" y="2214720"/>
            <a:ext cx="565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agnetis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magnetic matter from non-magnetic matt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Usually used to separate solid magnetic material from solid non-magnet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7" name="" descr=""/>
          <p:cNvPicPr/>
          <p:nvPr/>
        </p:nvPicPr>
        <p:blipFill>
          <a:blip r:embed="rId1"/>
          <a:stretch/>
        </p:blipFill>
        <p:spPr>
          <a:xfrm>
            <a:off x="6719760" y="2692440"/>
            <a:ext cx="21081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3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4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03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3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lectr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 use of electricity to separate comp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8160" y="464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4443480" y="32468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7" name="" descr=""/>
          <p:cNvPicPr/>
          <p:nvPr/>
        </p:nvPicPr>
        <p:blipFill>
          <a:blip r:embed="rId1"/>
          <a:stretch/>
        </p:blipFill>
        <p:spPr>
          <a:xfrm>
            <a:off x="3200400" y="347508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04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05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14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3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809640" y="2214720"/>
            <a:ext cx="46861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cuum Filtr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s vacuum suction to separate heterogeneous mixtures of solids &amp;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5" name="" descr=""/>
          <p:cNvPicPr/>
          <p:nvPr/>
        </p:nvPicPr>
        <p:blipFill>
          <a:blip r:embed="rId1"/>
          <a:stretch/>
        </p:blipFill>
        <p:spPr>
          <a:xfrm>
            <a:off x="5753160" y="2451240"/>
            <a:ext cx="3136680" cy="3746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15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15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25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809640" y="2214720"/>
            <a:ext cx="450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eparatory Funne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d to separate heterogeneous mixtures of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3" name="" descr=""/>
          <p:cNvPicPr/>
          <p:nvPr/>
        </p:nvPicPr>
        <p:blipFill>
          <a:blip r:embed="rId1"/>
          <a:stretch/>
        </p:blipFill>
        <p:spPr>
          <a:xfrm>
            <a:off x="5311800" y="2247840"/>
            <a:ext cx="3645000" cy="420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26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26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36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9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809640" y="2214720"/>
            <a:ext cx="79754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Distil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different boiling points to separate homogeneous solutions formed from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1" name="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434340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37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37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47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7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entrifug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rapid spinning to separate solids from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9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4480" name="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93372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05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05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he Different State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809640" y="2214720"/>
          <a:ext cx="7961400" cy="4608360"/>
        </p:xfrm>
        <a:graphic>
          <a:graphicData uri="http://schemas.openxmlformats.org/drawingml/2006/table">
            <a:tbl>
              <a:tblPr/>
              <a:tblGrid>
                <a:gridCol w="1852560"/>
                <a:gridCol w="2370240"/>
                <a:gridCol w="3738600"/>
              </a:tblGrid>
              <a:tr h="59292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 &amp; definite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28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; takes shape of contai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Plasma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ists at high temp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48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48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58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6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809640" y="2214720"/>
            <a:ext cx="39495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hromatograph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homogeneous mixtures through the use of a solvent &amp; a med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8" name="" descr=""/>
          <p:cNvPicPr/>
          <p:nvPr/>
        </p:nvPicPr>
        <p:blipFill>
          <a:blip r:embed="rId1"/>
          <a:stretch/>
        </p:blipFill>
        <p:spPr>
          <a:xfrm>
            <a:off x="4851360" y="2455920"/>
            <a:ext cx="3949920" cy="3479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9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590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591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9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690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4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809640" y="2214720"/>
            <a:ext cx="797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a separation technique in which the temperature of a solvent is increased to allow the solute to dissolve and then allowed to cool, which promotes the formation of solute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6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697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698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96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797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1" name="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809640" y="2214720"/>
            <a:ext cx="7975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separates a solid that is dissolved in a liquid through evaporation.  The liquid evaporates &amp; the solid recrystal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1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71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 on a Molecular Le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762120" y="2286000"/>
          <a:ext cx="8109000" cy="4416480"/>
        </p:xfrm>
        <a:graphic>
          <a:graphicData uri="http://schemas.openxmlformats.org/drawingml/2006/table">
            <a:tbl>
              <a:tblPr/>
              <a:tblGrid>
                <a:gridCol w="1704960"/>
                <a:gridCol w="6404040"/>
              </a:tblGrid>
              <a:tr h="103680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hat is happening at the molecular level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"/>
          <p:cNvSpPr/>
          <p:nvPr/>
        </p:nvSpPr>
        <p:spPr>
          <a:xfrm>
            <a:off x="2527200" y="3352680"/>
            <a:ext cx="6261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close together, have strong attractions for each other, are locked into position, and only have vibrational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65360" y="4406760"/>
            <a:ext cx="610884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moving slowly, are close to each other, have attractions to each other that are constantly forming and brea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77960" y="5626080"/>
            <a:ext cx="6108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in constant rapid motion, are widely separated, are not attracted to each other, and they bounce off each other when they col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 flipH="1">
            <a:off x="5179320" y="424188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723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823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7" name="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155600" y="2463840"/>
            <a:ext cx="1052640" cy="3643200"/>
            <a:chOff x="1155600" y="2463840"/>
            <a:chExt cx="1052640" cy="3643200"/>
          </a:xfrm>
        </p:grpSpPr>
        <p:sp>
          <p:nvSpPr>
            <p:cNvPr id="829" name=""/>
            <p:cNvSpPr/>
            <p:nvPr/>
          </p:nvSpPr>
          <p:spPr>
            <a:xfrm>
              <a:off x="1155600" y="2463840"/>
              <a:ext cx="1052640" cy="3643200"/>
            </a:xfrm>
            <a:custGeom>
              <a:avLst/>
              <a:gdLst>
                <a:gd name="textAreaLeft" fmla="*/ 55440 w 1052640"/>
                <a:gd name="textAreaRight" fmla="*/ 997200 w 105264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40">
                  <a:moveTo>
                    <a:pt x="3903" y="0"/>
                  </a:moveTo>
                  <a:arcTo wR="3903" hR="3903" stAng="16200000" swAng="-5400000"/>
                  <a:lnTo>
                    <a:pt x="0" y="70837"/>
                  </a:lnTo>
                  <a:arcTo wR="3903" hR="3903" stAng="10800000" swAng="-5400000"/>
                  <a:lnTo>
                    <a:pt x="17697" y="74740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51360" y="4013280"/>
              <a:ext cx="82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062240" y="3784680"/>
            <a:ext cx="1054440" cy="912600"/>
            <a:chOff x="4062240" y="3784680"/>
            <a:chExt cx="1054440" cy="912600"/>
          </a:xfrm>
        </p:grpSpPr>
        <p:sp>
          <p:nvSpPr>
            <p:cNvPr id="832" name=""/>
            <p:cNvSpPr/>
            <p:nvPr/>
          </p:nvSpPr>
          <p:spPr>
            <a:xfrm>
              <a:off x="4062240" y="3784680"/>
              <a:ext cx="1054440" cy="912600"/>
            </a:xfrm>
            <a:prstGeom prst="roundRect">
              <a:avLst>
                <a:gd name="adj" fmla="val 20833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77720" y="4013280"/>
              <a:ext cx="99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835" name="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374920" y="3670200"/>
            <a:ext cx="165096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9720" y="3772080"/>
            <a:ext cx="11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19640" y="367020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92800" y="3809880"/>
            <a:ext cx="161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2310840" y="4241880"/>
            <a:ext cx="160020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34120" y="438156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39080" y="4330800"/>
            <a:ext cx="13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51120" y="275580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20680" y="544824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D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849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949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3" name="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55600" y="2463840"/>
            <a:ext cx="1054080" cy="3645000"/>
          </a:xfrm>
          <a:custGeom>
            <a:avLst/>
            <a:gdLst>
              <a:gd name="textAreaLeft" fmla="*/ 55800 w 1054080"/>
              <a:gd name="textAreaRight" fmla="*/ 998280 w 1054080"/>
              <a:gd name="textAreaTop" fmla="*/ 55800 h 3645000"/>
              <a:gd name="textAreaBottom" fmla="*/ 3589200 h 3645000"/>
            </a:gdLst>
            <a:ahLst/>
            <a:rect l="textAreaLeft" t="textAreaTop" r="textAreaRight" b="textAreaBottom"/>
            <a:pathLst>
              <a:path w="21600" h="74674">
                <a:moveTo>
                  <a:pt x="3903" y="0"/>
                </a:moveTo>
                <a:arcTo wR="3903" hR="3903" stAng="16200000" swAng="-5400000"/>
                <a:lnTo>
                  <a:pt x="0" y="70771"/>
                </a:lnTo>
                <a:arcTo wR="3903" hR="3903" stAng="10800000" swAng="-5400000"/>
                <a:lnTo>
                  <a:pt x="17697" y="74674"/>
                </a:lnTo>
                <a:arcTo wR="3903" hR="3903" stAng="5400000" swAng="-5400000"/>
                <a:lnTo>
                  <a:pt x="21600" y="3903"/>
                </a:lnTo>
                <a:arcTo wR="3903" hR="390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494000" y="2679840"/>
            <a:ext cx="3186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957" name="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0400" y="275580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21400" y="544824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034E-FAD1-4233-A695-DABC6615A1BD}" type="slidenum">
              <a:t>7</a:t>
            </a:fld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964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064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y vs Chemica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079640" y="233676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property that can be observed or measured without changing the identity of the sub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079640" y="430524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343434"/>
                </a:solidFill>
                <a:latin typeface="Arial"/>
                <a:ea typeface="Arial"/>
              </a:rPr>
              <a:t>property that cannot be observed without permanently altering the substance's ident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 fill="hold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1072" name="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1172" name="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14400" y="2133720"/>
            <a:ext cx="7861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Dens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Volu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Tempera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Leng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5.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02840" y="3060720"/>
            <a:ext cx="297684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6. Melting Poi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7. Boiling Poi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8. Solu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9. Concentr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0. Energ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1. specific hea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 fill="hold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 fill="hold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 fill="hold"/>
                                        <p:tgtEl>
                                          <p:spTgt spid="1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czyk</dc:creator>
  <dc:description/>
  <dc:language>en-US</dc:language>
  <cp:lastModifiedBy/>
  <cp:revision>0</cp:revision>
  <dc:subject/>
  <dc:title>Matter and Change</dc:title>
</cp:coreProperties>
</file>